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ct" ContentType="image/x-pict"/>
  <Override PartName="/ppt/media/image4.pct" ContentType="image/x-pi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0" cy="27432000"/>
  <p:notesSz cx="26974800" cy="36118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1C4F-4337-4D44-AF74-AF8B58E1B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BD8-EE42-4B6F-AC84-27DC2769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BE19-EEC1-49D1-B90D-BB2303199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856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88320" y="640080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880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856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88320" y="15856920"/>
            <a:ext cx="1059948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1F8E-3719-42C5-A0ED-2A78B457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00"/>
              </a:spcBef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113F-68C5-4D4E-9ADF-774011B2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FA96-1ABC-421D-ABCA-B95D0EB6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2247-EFC7-4B01-835B-19CB29D45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BB4C-FC28-426B-86C1-057D0C6E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1098720"/>
            <a:ext cx="32918400" cy="211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5781-E4F6-4250-B347-2C6357F4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18B7-434F-45A1-A3B1-9504067B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6240" y="1585692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6388-55A7-4D7D-8C1F-E063D1C4D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880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6240" y="6400800"/>
            <a:ext cx="1606392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8800" y="15856920"/>
            <a:ext cx="32918400" cy="86353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indent="0">
              <a:spcBef>
                <a:spcPts val="3200"/>
              </a:spcBef>
              <a:buNone/>
              <a:tabLst>
                <a:tab algn="l" pos="3657600"/>
                <a:tab algn="l" pos="7315200"/>
              </a:tabLst>
            </a:pP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427E-1AFC-42DA-946E-24723973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1098720"/>
            <a:ext cx="32918400" cy="457200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ctr">
            <a:noAutofit/>
          </a:bodyPr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17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6400800"/>
            <a:ext cx="32918400" cy="1810368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rmAutofit/>
          </a:bodyPr>
          <a:p>
            <a:pPr marL="1371600" indent="-13716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1" marL="2971800" indent="-11430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2" marL="4572000" indent="-914400">
              <a:spcBef>
                <a:spcPts val="3200"/>
              </a:spcBef>
              <a:buClr>
                <a:srgbClr val="000000"/>
              </a:buClr>
              <a:buFont typeface="Arial"/>
              <a:buChar char="•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3" marL="6400800" indent="-914400">
              <a:spcBef>
                <a:spcPts val="3200"/>
              </a:spcBef>
              <a:buClr>
                <a:srgbClr val="000000"/>
              </a:buClr>
              <a:buFont typeface="Arial"/>
              <a:buChar char="–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4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5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  <a:p>
            <a:pPr lvl="6" marL="8229600" indent="-914400">
              <a:spcBef>
                <a:spcPts val="3200"/>
              </a:spcBef>
              <a:buClr>
                <a:srgbClr val="000000"/>
              </a:buClr>
              <a:buFont typeface="Arial"/>
              <a:buChar char="»"/>
              <a:tabLst>
                <a:tab algn="l" pos="3657600"/>
                <a:tab algn="l" pos="73152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6680" y="24980760"/>
            <a:ext cx="1158264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ct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12320" y="24980760"/>
            <a:ext cx="8534520" cy="1905120"/>
          </a:xfrm>
          <a:prstGeom prst="rect">
            <a:avLst/>
          </a:prstGeom>
          <a:noFill/>
          <a:ln w="0">
            <a:noFill/>
          </a:ln>
        </p:spPr>
        <p:txBody>
          <a:bodyPr lIns="365760" rIns="365760" tIns="182880" bIns="182880" anchor="t">
            <a:noAutofit/>
          </a:bodyPr>
          <a:lstStyle>
            <a:lvl1pPr indent="0" algn="r">
              <a:buNone/>
              <a:tabLst>
                <a:tab algn="l" pos="0"/>
                <a:tab algn="l" pos="3657600"/>
                <a:tab algn="l" pos="7315200"/>
              </a:tabLst>
              <a:defRPr b="0" lang="en-US" sz="5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657600"/>
                <a:tab algn="l" pos="7315200"/>
              </a:tabLst>
            </a:pPr>
            <a:fld id="{6C8F7BC9-9EB2-4642-9D38-391FA369DF89}" type="slidenum">
              <a:rPr b="0" lang="en-US" sz="5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ct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ct"/><Relationship Id="rId8" Type="http://schemas.openxmlformats.org/officeDocument/2006/relationships/oleObject" Target="../embeddings/oleObject4.bin"/><Relationship Id="rId9" Type="http://schemas.openxmlformats.org/officeDocument/2006/relationships/image" Target="../media/image3.pct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pct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.pct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pct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3.pct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3.pct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4.pct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36576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sChat: A Group Communication Service Over Wireless Sensor Network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ei Sun, Chien-Liang Fok, Gruia-Catalin Roman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shington University in St. Lou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6212680"/>
            <a:ext cx="350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3657600"/>
                <a:tab algn="l" pos="73152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search was supported by the NSF under NOSS grant CNS-052022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9068040" cy="131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25450920" y="1676520"/>
          <a:ext cx="110628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450920" y="1676520"/>
                    <a:ext cx="110628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26669880" y="2514600"/>
            <a:ext cx="9753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57600"/>
                <a:tab algn="l" pos="73152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Tw Cen MT"/>
              </a:rPr>
              <a:t>Mobile Computing Laboratory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120" y="4419720"/>
            <a:ext cx="102106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5791320"/>
            <a:ext cx="10134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ireless sensornets are more robust and less likely to fail in disaster scenario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y can serve as an alternative medium through which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rescuers can communicat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1043928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11781000"/>
            <a:ext cx="84582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e sensornet is initially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deployed for some other </a:t>
            </a:r>
            <a:br>
              <a:rPr sz="4200"/>
            </a:b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purpose (e.g., environmental monitoring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sers (rescuers) must remain in contact with each other while continuously moving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imited resourc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embership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Unreliable wireless link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460200" y="19159560"/>
            <a:ext cx="11430000" cy="71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Join - Member agents can join a specific group to exchange messages within the group.  A group is formed when the first member joins.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Leave -  A member agent can leave a specific group to stop sending or receiving messages within the group.  A group is disbanded when the last member leaves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nd - Member agents can send messages that will be forwarded to all the other members in the same group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079320" y="4343400"/>
            <a:ext cx="1165860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pproach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215760" y="5622840"/>
            <a:ext cx="1129356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Implement the group communication service on top of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Agilla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, a mobile agent middleware for sensornet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Each user has a </a:t>
            </a: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memb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in the network that “follows” the user and handles communication between the user and the gro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456840" y="23012280"/>
            <a:ext cx="30826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456840" y="24231600"/>
            <a:ext cx="30826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375840" y="2086308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1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123640" y="23106240"/>
            <a:ext cx="124920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539280" y="23106240"/>
            <a:ext cx="1333080" cy="563040"/>
            <a:chOff x="9539280" y="23106240"/>
            <a:chExt cx="1333080" cy="563040"/>
          </a:xfrm>
        </p:grpSpPr>
        <p:sp>
          <p:nvSpPr>
            <p:cNvPr id="59" name=""/>
            <p:cNvSpPr/>
            <p:nvPr/>
          </p:nvSpPr>
          <p:spPr>
            <a:xfrm>
              <a:off x="9539280" y="23106240"/>
              <a:ext cx="133308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623880" y="23207760"/>
              <a:ext cx="9928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9372600" y="21231360"/>
            <a:ext cx="325116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878040" y="23774400"/>
            <a:ext cx="196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456840" y="24793560"/>
            <a:ext cx="30826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45900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11706120" y="21699360"/>
            <a:ext cx="833040" cy="1312560"/>
            <a:chOff x="11706120" y="21699360"/>
            <a:chExt cx="833040" cy="1312560"/>
          </a:xfrm>
        </p:grpSpPr>
        <p:sp>
          <p:nvSpPr>
            <p:cNvPr id="66" name=""/>
            <p:cNvSpPr/>
            <p:nvPr/>
          </p:nvSpPr>
          <p:spPr>
            <a:xfrm>
              <a:off x="1170612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11955960" y="21886560"/>
            <a:ext cx="348840" cy="965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195596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9" name=""/>
          <p:cNvGrpSpPr/>
          <p:nvPr/>
        </p:nvGrpSpPr>
        <p:grpSpPr>
          <a:xfrm>
            <a:off x="10956960" y="21699360"/>
            <a:ext cx="833040" cy="1312560"/>
            <a:chOff x="10956960" y="21699360"/>
            <a:chExt cx="833040" cy="1312560"/>
          </a:xfrm>
        </p:grpSpPr>
        <p:sp>
          <p:nvSpPr>
            <p:cNvPr id="70" name=""/>
            <p:cNvSpPr/>
            <p:nvPr/>
          </p:nvSpPr>
          <p:spPr>
            <a:xfrm>
              <a:off x="109569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11206800" y="21886560"/>
            <a:ext cx="348840" cy="9651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12068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3" name=""/>
          <p:cNvGrpSpPr/>
          <p:nvPr/>
        </p:nvGrpSpPr>
        <p:grpSpPr>
          <a:xfrm>
            <a:off x="10206000" y="21699360"/>
            <a:ext cx="833040" cy="1312560"/>
            <a:chOff x="10206000" y="21699360"/>
            <a:chExt cx="833040" cy="1312560"/>
          </a:xfrm>
        </p:grpSpPr>
        <p:sp>
          <p:nvSpPr>
            <p:cNvPr id="74" name=""/>
            <p:cNvSpPr/>
            <p:nvPr/>
          </p:nvSpPr>
          <p:spPr>
            <a:xfrm>
              <a:off x="102060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5" name=""/>
            <p:cNvGraphicFramePr/>
            <p:nvPr/>
          </p:nvGraphicFramePr>
          <p:xfrm>
            <a:off x="10455840" y="21886560"/>
            <a:ext cx="348840" cy="9651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04558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77" name=""/>
          <p:cNvGrpSpPr/>
          <p:nvPr/>
        </p:nvGrpSpPr>
        <p:grpSpPr>
          <a:xfrm>
            <a:off x="9456840" y="21699360"/>
            <a:ext cx="833040" cy="1312560"/>
            <a:chOff x="9456840" y="21699360"/>
            <a:chExt cx="833040" cy="1312560"/>
          </a:xfrm>
        </p:grpSpPr>
        <p:sp>
          <p:nvSpPr>
            <p:cNvPr id="78" name=""/>
            <p:cNvSpPr/>
            <p:nvPr/>
          </p:nvSpPr>
          <p:spPr>
            <a:xfrm>
              <a:off x="945684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9706680" y="21886560"/>
            <a:ext cx="348840" cy="9651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970668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1" name=""/>
          <p:cNvSpPr/>
          <p:nvPr/>
        </p:nvSpPr>
        <p:spPr>
          <a:xfrm>
            <a:off x="14206680" y="23012280"/>
            <a:ext cx="3084480" cy="1219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206680" y="24231600"/>
            <a:ext cx="3084480" cy="561960"/>
          </a:xfrm>
          <a:prstGeom prst="rect">
            <a:avLst/>
          </a:prstGeom>
          <a:solidFill>
            <a:srgbClr val="f8b8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960960" y="20769120"/>
            <a:ext cx="113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 (2,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373360" y="23106240"/>
            <a:ext cx="1250640" cy="563400"/>
          </a:xfrm>
          <a:prstGeom prst="can">
            <a:avLst>
              <a:gd name="adj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uple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925680" y="23088600"/>
            <a:ext cx="1333440" cy="563040"/>
            <a:chOff x="15925680" y="23088600"/>
            <a:chExt cx="1333440" cy="563040"/>
          </a:xfrm>
        </p:grpSpPr>
        <p:sp>
          <p:nvSpPr>
            <p:cNvPr id="86" name=""/>
            <p:cNvSpPr/>
            <p:nvPr/>
          </p:nvSpPr>
          <p:spPr>
            <a:xfrm>
              <a:off x="15925680" y="23088600"/>
              <a:ext cx="1333440" cy="563040"/>
            </a:xfrm>
            <a:prstGeom prst="verticalScroll">
              <a:avLst>
                <a:gd name="adj" fmla="val 12500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009560" y="23190120"/>
              <a:ext cx="1043280" cy="3070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eighb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4123880" y="21231360"/>
            <a:ext cx="3249720" cy="421956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623920" y="23763240"/>
            <a:ext cx="239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206680" y="24793560"/>
            <a:ext cx="3084480" cy="563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A2 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208840" y="21242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457760" y="21699360"/>
            <a:ext cx="833040" cy="1312560"/>
            <a:chOff x="16457760" y="21699360"/>
            <a:chExt cx="833040" cy="1312560"/>
          </a:xfrm>
        </p:grpSpPr>
        <p:sp>
          <p:nvSpPr>
            <p:cNvPr id="93" name=""/>
            <p:cNvSpPr/>
            <p:nvPr/>
          </p:nvSpPr>
          <p:spPr>
            <a:xfrm>
              <a:off x="1645776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4" name=""/>
            <p:cNvGraphicFramePr/>
            <p:nvPr/>
          </p:nvGraphicFramePr>
          <p:xfrm>
            <a:off x="16707600" y="21886560"/>
            <a:ext cx="348840" cy="9651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95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1670760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96" name=""/>
          <p:cNvGrpSpPr/>
          <p:nvPr/>
        </p:nvGrpSpPr>
        <p:grpSpPr>
          <a:xfrm>
            <a:off x="15706800" y="21699360"/>
            <a:ext cx="833040" cy="1312560"/>
            <a:chOff x="15706800" y="21699360"/>
            <a:chExt cx="833040" cy="1312560"/>
          </a:xfrm>
        </p:grpSpPr>
        <p:sp>
          <p:nvSpPr>
            <p:cNvPr id="97" name=""/>
            <p:cNvSpPr/>
            <p:nvPr/>
          </p:nvSpPr>
          <p:spPr>
            <a:xfrm>
              <a:off x="1570680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15956640" y="21886560"/>
            <a:ext cx="348840" cy="9651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1595664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"/>
          <p:cNvGrpSpPr/>
          <p:nvPr/>
        </p:nvGrpSpPr>
        <p:grpSpPr>
          <a:xfrm>
            <a:off x="14957280" y="21699360"/>
            <a:ext cx="833400" cy="1312560"/>
            <a:chOff x="14957280" y="21699360"/>
            <a:chExt cx="833400" cy="1312560"/>
          </a:xfrm>
        </p:grpSpPr>
        <p:sp>
          <p:nvSpPr>
            <p:cNvPr id="101" name=""/>
            <p:cNvSpPr/>
            <p:nvPr/>
          </p:nvSpPr>
          <p:spPr>
            <a:xfrm>
              <a:off x="14957280" y="21699360"/>
              <a:ext cx="83340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15207120" y="21886560"/>
            <a:ext cx="348840" cy="9651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152071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4" name=""/>
          <p:cNvGrpSpPr/>
          <p:nvPr/>
        </p:nvGrpSpPr>
        <p:grpSpPr>
          <a:xfrm>
            <a:off x="14206680" y="21699360"/>
            <a:ext cx="833040" cy="1312560"/>
            <a:chOff x="14206680" y="21699360"/>
            <a:chExt cx="833040" cy="1312560"/>
          </a:xfrm>
        </p:grpSpPr>
        <p:sp>
          <p:nvSpPr>
            <p:cNvPr id="105" name=""/>
            <p:cNvSpPr/>
            <p:nvPr/>
          </p:nvSpPr>
          <p:spPr>
            <a:xfrm>
              <a:off x="14206680" y="21699360"/>
              <a:ext cx="833040" cy="131256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6" name=""/>
            <p:cNvGraphicFramePr/>
            <p:nvPr/>
          </p:nvGraphicFramePr>
          <p:xfrm>
            <a:off x="14456520" y="21886560"/>
            <a:ext cx="348840" cy="9651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14456520" y="21886560"/>
                      <a:ext cx="348840" cy="96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8" name=""/>
          <p:cNvGrpSpPr/>
          <p:nvPr/>
        </p:nvGrpSpPr>
        <p:grpSpPr>
          <a:xfrm>
            <a:off x="12165120" y="20602440"/>
            <a:ext cx="418320" cy="628560"/>
            <a:chOff x="12165120" y="20602440"/>
            <a:chExt cx="418320" cy="628560"/>
          </a:xfrm>
        </p:grpSpPr>
        <p:sp>
          <p:nvSpPr>
            <p:cNvPr id="109" name=""/>
            <p:cNvSpPr/>
            <p:nvPr/>
          </p:nvSpPr>
          <p:spPr>
            <a:xfrm>
              <a:off x="12372840" y="20855160"/>
              <a:ext cx="0" cy="375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12165120" y="20602440"/>
              <a:ext cx="418320" cy="462240"/>
              <a:chOff x="12165120" y="20602440"/>
              <a:chExt cx="418320" cy="462240"/>
            </a:xfrm>
          </p:grpSpPr>
          <p:sp>
            <p:nvSpPr>
              <p:cNvPr id="111" name=""/>
              <p:cNvSpPr/>
              <p:nvPr/>
            </p:nvSpPr>
            <p:spPr>
              <a:xfrm>
                <a:off x="12334320" y="20790360"/>
                <a:ext cx="83160" cy="9396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2251520" y="20696400"/>
                <a:ext cx="245520" cy="27396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2165120" y="20602440"/>
                <a:ext cx="418320" cy="462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4" name=""/>
          <p:cNvGrpSpPr/>
          <p:nvPr/>
        </p:nvGrpSpPr>
        <p:grpSpPr>
          <a:xfrm>
            <a:off x="14123880" y="20574000"/>
            <a:ext cx="418320" cy="626760"/>
            <a:chOff x="14123880" y="20574000"/>
            <a:chExt cx="418320" cy="626760"/>
          </a:xfrm>
        </p:grpSpPr>
        <p:sp>
          <p:nvSpPr>
            <p:cNvPr id="115" name=""/>
            <p:cNvSpPr/>
            <p:nvPr/>
          </p:nvSpPr>
          <p:spPr>
            <a:xfrm>
              <a:off x="14331600" y="20826000"/>
              <a:ext cx="0" cy="37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14123880" y="20574000"/>
              <a:ext cx="418320" cy="460800"/>
              <a:chOff x="14123880" y="20574000"/>
              <a:chExt cx="418320" cy="460800"/>
            </a:xfrm>
          </p:grpSpPr>
          <p:sp>
            <p:nvSpPr>
              <p:cNvPr id="117" name=""/>
              <p:cNvSpPr/>
              <p:nvPr/>
            </p:nvSpPr>
            <p:spPr>
              <a:xfrm>
                <a:off x="14293080" y="20761200"/>
                <a:ext cx="83160" cy="9360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4210280" y="20667600"/>
                <a:ext cx="245520" cy="27324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4123880" y="20574000"/>
                <a:ext cx="418320" cy="460800"/>
              </a:xfrm>
              <a:prstGeom prst="ellipse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0" name=""/>
          <p:cNvGrpSpPr/>
          <p:nvPr/>
        </p:nvGrpSpPr>
        <p:grpSpPr>
          <a:xfrm>
            <a:off x="12623760" y="20573640"/>
            <a:ext cx="1415880" cy="187200"/>
            <a:chOff x="12623760" y="20573640"/>
            <a:chExt cx="1415880" cy="187200"/>
          </a:xfrm>
        </p:grpSpPr>
        <p:sp>
          <p:nvSpPr>
            <p:cNvPr id="121" name=""/>
            <p:cNvSpPr/>
            <p:nvPr/>
          </p:nvSpPr>
          <p:spPr>
            <a:xfrm flipV="1">
              <a:off x="12623760" y="20573640"/>
              <a:ext cx="33264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95640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13290120" y="20573640"/>
              <a:ext cx="4161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706280" y="20574000"/>
              <a:ext cx="333360" cy="186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2706200" y="21605760"/>
            <a:ext cx="1333800" cy="187560"/>
          </a:xfrm>
          <a:custGeom>
            <a:avLst/>
            <a:gdLst/>
            <a:ahLst/>
            <a:rect l="l" t="t" r="r" b="b"/>
            <a:pathLst>
              <a:path w="864" h="96">
                <a:moveTo>
                  <a:pt x="0" y="96"/>
                </a:moveTo>
                <a:cubicBezTo>
                  <a:pt x="144" y="48"/>
                  <a:pt x="288" y="0"/>
                  <a:pt x="432" y="0"/>
                </a:cubicBezTo>
                <a:cubicBezTo>
                  <a:pt x="576" y="0"/>
                  <a:pt x="720" y="48"/>
                  <a:pt x="864" y="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2914640" y="2165184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ig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3956840" y="22543920"/>
            <a:ext cx="2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957200" y="22543920"/>
            <a:ext cx="0" cy="84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2372480" y="233870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7120" y="22731480"/>
            <a:ext cx="91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mo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20421720"/>
            <a:ext cx="86108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bile agents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ove and clone across nod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an be dynamically injecte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mplifies developmen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high-level agent abstrac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ontext discove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015920" indent="-5587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3657600"/>
                <a:tab algn="l" pos="73152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multi-hop geographic greedy routin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460200" y="15011280"/>
            <a:ext cx="1120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leader agent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 keeps track of member locations and distributes group broadcast messag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770040" indent="-770040">
              <a:buClr>
                <a:srgbClr val="000000"/>
              </a:buClr>
              <a:buFont typeface="Wingdings" charset="2"/>
              <a:buChar char=""/>
              <a:tabLst>
                <a:tab algn="l" pos="1154160"/>
                <a:tab algn="l" pos="1424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000000"/>
                </a:solidFill>
                <a:latin typeface="Arial"/>
              </a:rPr>
              <a:t>The registry </a:t>
            </a: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keeps track of leader location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383880" y="18013320"/>
            <a:ext cx="1135404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Supported Operation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9004040"/>
            <a:ext cx="8381880" cy="1191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Agilla Middlewa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78520" y="21869280"/>
            <a:ext cx="6629400" cy="39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07960" indent="-45720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&lt;“mbr”, enumerator, agent id, location&gt;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Enumerator: iterative access for broadca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507960" indent="-457200"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gent id: random access for member location updat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455640" y="247698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879920" y="9725040"/>
            <a:ext cx="7086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When a user moves, it “drags” its member to its new location.  Member updates its new location with leader when it is dragged.  User injects a new member if it fails to drag its old member.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754480" y="20650320"/>
            <a:ext cx="6705720" cy="932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080"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000000"/>
                </a:solidFill>
                <a:latin typeface="Arial"/>
              </a:rPr>
              <a:t>Leader Tuplespac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067680" y="4800600"/>
          <a:ext cx="19812240" cy="1481472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9067680" y="4800600"/>
                    <a:ext cx="19812240" cy="148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5:07:15Z</dcterms:created>
  <dc:creator>Liang</dc:creator>
  <dc:description/>
  <dc:language>en-US</dc:language>
  <cp:lastModifiedBy>Office 2004 Test Drive User</cp:lastModifiedBy>
  <dcterms:modified xsi:type="dcterms:W3CDTF">2007-04-25T22:55:18Z</dcterms:modified>
  <cp:revision>74</cp:revision>
  <dc:subject/>
  <dc:title>Slide 1</dc:title>
</cp:coreProperties>
</file>